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3F87-8967-49A2-9E57-E63F1FC9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could be a stand-alone workshop.  The ppt could be given followed by time for teachers to work together developing at least one program of study for the local distr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“final piece” of the program of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link to show them the labor market information.  Choose an example to share with the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to participants that the labor market data (the “spec sheets”) is what is driving the development of Programs of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the steps previously pres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 ppt, have teachers get into like groups and develop a program of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 that they are probably already doing much of this in the classroom and curriculum.  The goal is to bring each separate piece together (synchroniz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pieces and amounts of K’Nex or any “constructing” type toy at each table.  Give time for each table to create an object using th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the construction activity with the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s of Study are a way to link each family and consumer sciences program to the real world so that students and parents can more easily see the relevance to Family &amp; Consumer Sciences coursework and employab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s of Study helps  us all construct a model even though we use different gears (pieces).  Demonstrates that Family &amp; Consumer Sciences courses are a part of preparing students for the workforce.  Even though each local Family &amp; Consumer Sciences program may offer different courses, any course offered must link to a Career Path and Career Cluster within a Program of Stud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ionale – programs of study provide a more seamless transition from high school family &amp; consumer sciences programs to the next step – whether that be work or further education for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 of Study will allow students to connect classroom learning and activities with real-world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state and national levels, decisions are made based on funding dollars.  As a part of Carl Perkins Legislation, school districts must develop programs of study.  Family &amp; Consumer Sciences must be the leader in meeting this requirement of the federal legislation.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or and relevance” will become vital component of our loca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 &amp; Consumer Scienc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 as a result of the “construction” of Programs of Stu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 &amp; Consumer Sciences departments in each district needs to be the construction foreman in creating the blue print for the building of Programs of Study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loca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ool district is required to have one Program of Study in place by the 2012 MSIP Review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on links to show participants where each course fits into Programs of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“steps” to developing a local program of study.  Programs of study will vary depending on the size of the department, number of students enrolled, the participating career &amp; tech school, and the community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is to look at your local course offerin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look at what courses students take at the career &amp; tech cent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tudents “feed” into these courses from the courses at the local level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re other experiences or certifications that are available in your ar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the Community College in your area.  What courses are offered locally that would help prepare students for degrees at the community colle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the Tech-Prep coordinator at the community college to possibly establish an articulation agree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ate a local Family and Consumer Sciences teacher to serve as the liaison between the community college and local departments.  Small districts within the same area might work together to accomplis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817-3E8F-4631-8529-20001014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D7E-9ED7-4CA5-A45E-5B03A0D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301-4173-43DD-8D5C-5C832CA3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297-5877-454E-9D54-E0104E60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668-DB2B-4F80-A0A7-74925B5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F08-960B-4134-AAAD-CFA3FE6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FCE-38D9-464F-8116-39560FC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1FF-6155-4828-A316-7FBF9575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1A3-9F83-458E-BEF9-AA19CDF2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1C7-1077-455F-88C1-02972A7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37A-4741-49B9-9A7F-700F82F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AFB-A263-4353-AEF5-9568F03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D42-6177-43C7-B93D-E24EB394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sourieconomy.org/" TargetMode="External"/><Relationship Id="rId3" Type="http://schemas.openxmlformats.org/officeDocument/2006/relationships/hyperlink" Target="http://www.missourieconomy.org/" TargetMode="External"/><Relationship Id="rId4" Type="http://schemas.openxmlformats.org/officeDocument/2006/relationships/hyperlink" Target="http://www.missourieconomy.org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_Program_of_Study_Temp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trix-familyab.pdf" TargetMode="External"/><Relationship Id="rId3" Type="http://schemas.openxmlformats.org/officeDocument/2006/relationships/hyperlink" Target="file:///matrix-career.pdf" TargetMode="External"/><Relationship Id="rId4" Type="http://schemas.openxmlformats.org/officeDocument/2006/relationships/hyperlink" Target="file:///matrix-family2.pdf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chronizing the G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 of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courses offered align with your regional labor mark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missourieconomy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s Synchroniz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rses do you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rses does your career technical center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grams/courses do you feed into at your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courses offered align with the labor mark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s Synchroniz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ea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1219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34120" y="1143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05520" y="32767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124080" y="41911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1080" y="16765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-Focused Comprehensive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1676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er Focuse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886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Learning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2080" y="4800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96252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Secondary Arti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238560" y="380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86200" y="9144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CS Work &amp; Family Dual Purpose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e 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ll the pieces on the table, create a mod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We All Have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e Gea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each group begin with same number of pie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each group end up with a model that looked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every Family &amp; Consumer Sciences program in state have same courses?  same number of teachers?   NO, but still connected through course offerings, national and state standards/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of Study-- Get the Gears Mov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for students and parents to see the link of local Family &amp; Consumer Sciences programs to the real wor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how different gears (courses) can be used to construct Programs of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2019240"/>
            <a:ext cx="5410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 Perkins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IP Review--target date 2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mily &amp; Consumer Sciences G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of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Family-Focus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Career-Focus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Optional Family-Focus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rses do you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-Focused Compreh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Family Dual-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-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grams does your career technical center o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inary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Industry Learning Experiences and Cer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grams/courses do you feed into at your the community col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Secondary Arti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7:55Z</dcterms:created>
  <dc:creator>Connie Dowis User</dc:creator>
  <dc:description/>
  <dc:language>en-US</dc:language>
  <cp:lastModifiedBy>Connie Dowis User</cp:lastModifiedBy>
  <dcterms:modified xsi:type="dcterms:W3CDTF">2008-07-17T15:17:54Z</dcterms:modified>
  <cp:revision>44</cp:revision>
  <dc:subject/>
  <dc:title>Synchronizing the Gears</dc:title>
</cp:coreProperties>
</file>